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A849-CA1B-4D9F-8AA9-2A3363768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99EA-324B-4DC7-A5AA-18D23EE45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A688-0F59-4402-AF52-7505FC820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0687-C51B-4B78-ABEA-B17F2A7F0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5D833-F959-4E90-B46D-8FA667107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68003-6258-4BAC-86A2-AFFFF4B02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7F62F-0AA0-46F7-85AF-869CB0133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15E90-5B57-4609-BF83-303357654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DD533-ABCF-45C8-AB60-53C6C2117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7C789-FF57-4FAE-8A4A-107DB1E14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655AE-C12A-4403-88F5-78AEB22F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D1CD-AEF7-4EA5-8A0D-F6375852D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C92EF-6E3F-4E17-BD9E-DD1E988C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10FBB-2765-4BCE-BB6C-31D24B2F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01ABF-0321-4E1E-8730-4926AA967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C1095-05CF-4C64-B9EE-FAC47829F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64DEC-799A-4E60-B52F-CEBBB6D5B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F775-65E4-4EF6-BE07-3141D656C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C1E6-2FB3-494A-970C-DBBD871E8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99C0-0D71-462F-B647-FA25CA9FB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A359-70D2-4B9A-A7ED-4D5E08667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2122-48BF-4D99-8B79-2BD9FB7E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C11A-123E-4DF4-A13C-EB8C140C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55C2-8D85-48E5-8CF6-A53583171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8D78-1800-46B1-9397-24BCF315139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C8DF8-1F59-4A18-BD0F-F6B53FF560E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3200" spc="-1" strike="noStrike">
                <a:solidFill>
                  <a:srgbClr val="b2b2b2"/>
                </a:solidFill>
                <a:latin typeface="Arial"/>
              </a:rPr>
              <a:t>«Процессы и аппараты пищевых производств» </a:t>
            </a:r>
            <a:br>
              <a:rPr sz="3200"/>
            </a:b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87280" y="2565000"/>
            <a:ext cx="73454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КОНСПЕКТ ЛЕКЦИЙ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для специальностей 050727 – Технология продовольственных продуктов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050728 – Технология перерабатывающих производств, 050724 – Технологические машины и оборудование, 050701 – Биотехнолог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К л а с с и ф и к а ц и я   п р о ц е с с о в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 МАССООБМЕННЫЕ ПРОЦЕСС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А  Абсорбц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Г  Ректификац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Б  Адсорбц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Д  Суш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В  Экстракц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Е  Растворе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Ж  Кристаллизац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260280"/>
            <a:ext cx="8207280" cy="6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Для описания состояния и его изменения различных тел используют физические величины, для их измерения – единицы системы СИ.</a:t>
            </a:r>
            <a:br>
              <a:rPr sz="2000"/>
            </a:b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работка новых процессов и аппаратов состоит из нескольких стадий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Разработка технического предлож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Создание  эскизного проек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Создание технического проект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Создание  конструкторской документац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Данные стадии предусматривают аналитические и экспериментальные исследования – для этого теория моделирования</a:t>
            </a: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403848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1.Математическое моделирование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1. Детерминированный подход – анализ элементарных явлен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2.Стохатический – изучение влияния входных параметров на выходны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2. Физическое моделирование –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зучение процессов на конкретных моделя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Основы теории подобия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Процессы, происходящие в модели и натуральном аппарате, должны описываться одинаковыми уравнения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Модель должна быть геометрически подобна натуральному образц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Значения начальные и граничных условий процесса, выраженные в виде критериев, должны быть одинаковы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Все критерии и безразмерные компоненты во всех сходных точках должны быть одинаковыми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1628640"/>
            <a:ext cx="4032360" cy="439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788000" y="1628640"/>
            <a:ext cx="3887640" cy="439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Требования, предъявляемые к аппаратам: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хнологические – качество, короткое время, энерго-ресурсосберегающ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ксплуатационные – простота обслуживания при минимальных затратах и времени, доступность для ремонта и чист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нергетические – энергосбереж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нструктивные – унификация, стандартизация, снижение материалоемкости, эстетичность и т.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кономическ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щита окружающей сре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627280" y="1413000"/>
            <a:ext cx="5759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ЕКЦИЯ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пределения и понят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лассификация процес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сновные принципы проектирования новых аппара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Основные понятия и определения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цесс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последовательные и закономерные изменения в системе, приводящие к возникновению в ней новых свойст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шин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механизм (их сочетание) предназначенные для преобразования механической энергии в полезную работ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пара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устройство для проведения какого-либо процесс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В основе всех технологических процессов лежат законы сохранения энергии и массы:</a:t>
            </a:r>
            <a:br>
              <a:rPr sz="2800"/>
            </a:b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  тепловой балан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  материальный балан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619280" y="2421000"/>
                <a:ext cx="352908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П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ПОТ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547640" y="4076640"/>
                <a:ext cx="36007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П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К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ПОТ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987640" y="5084640"/>
                <a:ext cx="302436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2411280" y="4941720"/>
            <a:ext cx="4321440" cy="100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Классификация процессов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ганизационно-техническ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 отношению ко време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 кинетическим закономерностя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корость процесса прямо пропорциональна движущейся силе и обратно сопротивлению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де х – движущая си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484360" y="4221000"/>
                <a:ext cx="2087640" cy="107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К л а с с и ф и к а ц и я   п р о ц е с с о в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1 Организационно-техническа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) периодиче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) непрерыв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) комбинирован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2 По отношению ко времен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) установившиеся П≠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f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τ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 – параметр процес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) неустановившиеся П=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f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τ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549360"/>
            <a:ext cx="734364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 кинетическим закономерностям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) гидромеханические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X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=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Δ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) механические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X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=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Δ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) тепловые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X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=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Δ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) массообменные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X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=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Δ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) химическ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) микробиологическ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) электрофизические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X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л=Δ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3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К л а с с и ф и к а ц и я   п р о ц е с с о в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К л а с с и ф и к а ц и я   п р о ц е с с о в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47640" y="1125360"/>
            <a:ext cx="46609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1 ГИДРОМЕХАНИЧЕСКИЕ ПРОЦЕСС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24000" y="1628640"/>
          <a:ext cx="8208360" cy="4254480"/>
        </p:xfrm>
        <a:graphic>
          <a:graphicData uri="http://schemas.openxmlformats.org/drawingml/2006/table">
            <a:tbl>
              <a:tblPr/>
              <a:tblGrid>
                <a:gridCol w="710640"/>
                <a:gridCol w="2023200"/>
                <a:gridCol w="756360"/>
                <a:gridCol w="1984320"/>
                <a:gridCol w="792000"/>
                <a:gridCol w="1941840"/>
              </a:tblGrid>
              <a:tr h="96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 неоднородных жидкостных систе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еление неоднородных жидкостных систе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еление неоднородных газовых систе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меши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таи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аждение под действием силы тяже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пергир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ьтр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аждение под действием центробежных си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нообраз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ифугир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ьтрац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евдоожиж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ектроосажд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6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ушение и удаление неоднородных слое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К л а с с и ф и к а ц и я   п р о ц е с с о в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376360" y="1140480"/>
            <a:ext cx="3288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2 МЕХАНИЧЕСКИЕ ПРОЦЕСС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68360" y="1739880"/>
          <a:ext cx="7920000" cy="2317680"/>
        </p:xfrm>
        <a:graphic>
          <a:graphicData uri="http://schemas.openxmlformats.org/drawingml/2006/table">
            <a:tbl>
              <a:tblPr/>
              <a:tblGrid>
                <a:gridCol w="684000"/>
                <a:gridCol w="3129120"/>
                <a:gridCol w="744480"/>
                <a:gridCol w="336240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 однородных и неоднородных твердых, пластичных и сыпучих систе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еление твердых и сыпучих систе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.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льч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.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еление неоднородных многокомпонентных систем с получением однокомпонентны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.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меши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.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еление неоднородных систем по размерам компонент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.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сс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2721600" y="4091760"/>
            <a:ext cx="274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3 ТЕПЛОВЫЕ ПРОЦЕСС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95280" y="4724280"/>
          <a:ext cx="8064360" cy="1919520"/>
        </p:xfrm>
        <a:graphic>
          <a:graphicData uri="http://schemas.openxmlformats.org/drawingml/2006/table">
            <a:tbl>
              <a:tblPr/>
              <a:tblGrid>
                <a:gridCol w="698400"/>
                <a:gridCol w="3184560"/>
                <a:gridCol w="758880"/>
                <a:gridCol w="34225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 изменения агрегатного состоя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изменением агрегатного состоя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гре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денсац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хлажд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Б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ообраз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ораживание-разморажи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вление-отверде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4T13:56:42Z</dcterms:created>
  <dc:creator>User</dc:creator>
  <dc:description/>
  <dc:language>en-US</dc:language>
  <cp:lastModifiedBy>User</cp:lastModifiedBy>
  <dcterms:modified xsi:type="dcterms:W3CDTF">2006-12-19T12:05:04Z</dcterms:modified>
  <cp:revision>5</cp:revision>
  <dc:subject/>
  <dc:title> «Процессы и аппараты пищевых производств»  </dc:title>
</cp:coreProperties>
</file>